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447-91AD-4083-AFAE-D054D362AD7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CE7E-2403-4FCB-A9F6-C74A161B5BE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8D9-B9E0-49AE-BDC8-0BC9B0B70FA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8959-11A6-4375-8791-035A1844B0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54E-63DF-4233-8327-DD1256A6E0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53D2-1B1F-4A25-90A4-E76DF1C077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8429-9266-493A-9BBA-C514FC6943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8A96-C0B2-46CB-B47E-449FE683DB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7681-C934-4570-9852-C80FAEC2B9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91E-C3B4-4A71-B1B8-4DF4B87C694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0E90-385B-4865-AAE9-59C7C513675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DF8-9F5C-43EE-A889-39795CB425E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501-3ACA-4F2A-ACEB-78C877ED47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B0BC-DD34-4321-A212-81C4616661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391B-8371-4622-822F-59C739686A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5A37-01F4-49A0-B7EF-2B79706111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909-14CE-42EF-A296-4E1D92A3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6BF-4993-4FCD-A42A-D041A2F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2F9-9E10-492B-844D-5448BE38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3FC-ABDE-4FD6-903D-1F50BFBB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550-08B7-41F1-A704-294A164B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42D-F4E1-4EAD-A04E-894AC8B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A47-DF05-44EA-AC56-39E21D3E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B8F-BF85-41AD-8BCE-0566C67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AB5-E6DA-4AFE-B3BC-B38B63A5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E5D-BB79-48FD-B0F7-DA253A8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BB3-79A0-4586-A553-3593268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BB1-4D25-4E4D-B1E5-415F45C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871F-3531-455A-A0D7-91AA8A62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intro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Accommodating Assignments</a:t>
            </a:r>
            <a:br>
              <a:rPr sz="60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ing Instruction to Me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s of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74820000[1]"/>
          <p:cNvPicPr/>
          <p:nvPr/>
        </p:nvPicPr>
        <p:blipFill>
          <a:blip r:embed="rId1"/>
          <a:stretch/>
        </p:blipFill>
        <p:spPr>
          <a:xfrm>
            <a:off x="3429000" y="3809880"/>
            <a:ext cx="2263680" cy="24386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provide clear, concise written &amp; verbal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xamples with the directions when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learner how to do the work with the example, even if you already tau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are more than one set of directions on a worksheet page, be sure to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ighligh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s in some way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ject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701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eet Exampl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y content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Pj04227930000[1]"/>
          <p:cNvPicPr/>
          <p:nvPr/>
        </p:nvPicPr>
        <p:blipFill>
          <a:blip r:embed="rId1"/>
          <a:stretch/>
        </p:blipFill>
        <p:spPr>
          <a:xfrm>
            <a:off x="2743200" y="2057400"/>
            <a:ext cx="3809880" cy="380988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te T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note taking/pac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opy of student or teacher notes to be give automatically to those who nee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partially completed outline of notes or brief fill in the blank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hart or graphic organizer to be filled in during the note-t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teractive note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s time to correct notes, talk about notes, and reflect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s, write 3 key ideas from not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Cj04134600000[1]"/>
          <p:cNvPicPr/>
          <p:nvPr/>
        </p:nvPicPr>
        <p:blipFill>
          <a:blip r:embed="rId1"/>
          <a:stretch/>
        </p:blipFill>
        <p:spPr>
          <a:xfrm>
            <a:off x="7238880" y="609480"/>
            <a:ext cx="1724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tudy Guides &amp; T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ssessment sections of your brochure (parts 3&amp;4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question on the back panel:  “What different ways do you or will you accommodate assessments, study guides, and assessment formats in your class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cket, read through the sample study guides and tests.  Discuss which are well-adapted and what needs to b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w 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signed scenario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e how you might accommodate the student based on today’s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 a 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hare how you might accommodate the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prepared to share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icip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0786240000[1]"/>
          <p:cNvPicPr/>
          <p:nvPr/>
        </p:nvPicPr>
        <p:blipFill>
          <a:blip r:embed="rId1"/>
          <a:stretch/>
        </p:blipFill>
        <p:spPr>
          <a:xfrm>
            <a:off x="6858000" y="4724280"/>
            <a:ext cx="1881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 co-taught lesson with co-teacher using the planning form.  After implementing the lesson, write a reflective journal entry about the lesson. (focus on including differentiation strate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Reflective journal entry (minimum of one page typed- AND completed, co-teaching form in week 8 of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arm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Read the let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a student (or students) you have ha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st or currently have that came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 as you read the let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Turn to a partner and 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ccommodations do you currently make for th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to improve their learning in your content are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flamingos"/>
          <p:cNvPicPr/>
          <p:nvPr/>
        </p:nvPicPr>
        <p:blipFill>
          <a:blip r:embed="rId1"/>
          <a:stretch/>
        </p:blipFill>
        <p:spPr>
          <a:xfrm>
            <a:off x="6172200" y="457200"/>
            <a:ext cx="2695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295280"/>
            <a:ext cx="84582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ill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Understand how the student with special needs lea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Experience practical application of accommodations tha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en learning expec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Validate and add to your current tool box of accommod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pport students wit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learning styles i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and assessm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Apply accommodation strateg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 classroom scena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enguins"/>
          <p:cNvPicPr/>
          <p:nvPr/>
        </p:nvPicPr>
        <p:blipFill>
          <a:blip r:embed="rId1"/>
          <a:stretch/>
        </p:blipFill>
        <p:spPr>
          <a:xfrm>
            <a:off x="5257800" y="3809880"/>
            <a:ext cx="36766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ommo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3520" y="1521000"/>
            <a:ext cx="822960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intended to reduce or mediate the effects of the student’s disability; they are not intended to reduce the learning expect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commodations must occur during instruction, as well as assessmen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the Maryland Statewide Individualized Education Program (IEP) Process Guide, MSDE Special Education/Early Intervention Sevices, May 1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33520" y="152100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wgbh/misunderstoodminds/intro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bunny"/>
          <p:cNvPicPr/>
          <p:nvPr/>
        </p:nvPicPr>
        <p:blipFill>
          <a:blip r:embed="rId2"/>
          <a:stretch/>
        </p:blipFill>
        <p:spPr>
          <a:xfrm>
            <a:off x="4495680" y="685800"/>
            <a:ext cx="332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33520" y="1521000"/>
            <a:ext cx="8229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way to promote independence in any stud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as difficulty with attention or multiple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the sample process guide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udents with speci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student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ish"/>
          <p:cNvPicPr/>
          <p:nvPr/>
        </p:nvPicPr>
        <p:blipFill>
          <a:blip r:embed="rId1"/>
          <a:stretch/>
        </p:blipFill>
        <p:spPr>
          <a:xfrm>
            <a:off x="5029200" y="2590920"/>
            <a:ext cx="31845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ing Across the Curriculu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ch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lephants"/>
          <p:cNvPicPr/>
          <p:nvPr/>
        </p:nvPicPr>
        <p:blipFill>
          <a:blip r:embed="rId1"/>
          <a:stretch/>
        </p:blipFill>
        <p:spPr>
          <a:xfrm>
            <a:off x="2895480" y="1981080"/>
            <a:ext cx="32004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kshee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adapt them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eeds of my lear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5627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ayou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ample white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Worksheets = Confused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question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items per concept to a minimum.  Shortening the items expected can benefit your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worksheets into sections using text boxes or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ject 4" descr=""/>
          <p:cNvPicPr/>
          <p:nvPr/>
        </p:nvPicPr>
        <p:blipFill>
          <a:blip r:embed="rId1"/>
          <a:stretch/>
        </p:blipFill>
        <p:spPr>
          <a:xfrm>
            <a:off x="4721400" y="1523880"/>
            <a:ext cx="37749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12:47Z</dcterms:created>
  <dc:creator>fcps</dc:creator>
  <dc:description/>
  <dc:language>en-US</dc:language>
  <cp:lastModifiedBy>Journell-Hoch,Cindy D</cp:lastModifiedBy>
  <cp:lastPrinted>2012-04-24T15:32:01Z</cp:lastPrinted>
  <dcterms:modified xsi:type="dcterms:W3CDTF">2012-04-24T18:33:39Z</dcterms:modified>
  <cp:revision>15</cp:revision>
  <dc:subject/>
  <dc:title>Slide 1</dc:title>
</cp:coreProperties>
</file>